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DAD-D43E-470F-84D1-475866E4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15C-F24F-4CBC-89C5-D3D9D3E2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293BB-381A-409D-81A3-0A3B140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E7219-4463-4350-8A1D-280EDFC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DF0C4-B606-42D9-B29A-81F6A37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910B-1014-4BD2-B326-C7A9252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E08D0-74E9-4C48-8736-7CE1AB3C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549E8-CAEB-4AC1-8CF0-91AC19E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C9F08-1BEE-459B-ABCF-574AEDB4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C5F57-1BDE-40D7-B287-1570052A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A4159-7E4C-42E8-B5A6-F2FD78F0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ABB9-2B1C-40C4-9871-74B0BECC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2C0-08A5-441E-B683-2FA3071B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DB39F-3F41-4B10-9B4D-60508BA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840EE-14A2-4AC9-902F-FFB666E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0F38-F1B0-4BBF-BA9E-39C134D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E8DE4-5269-404B-9173-9C2B7D97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F2AD-2A7C-455A-9F2E-4F99CD6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E8AF6-B0C8-4399-B12A-46485DE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142F8-D01E-496C-8B01-9FE2C2E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1AB4C-A7DE-43E9-A6FC-7C953376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E57C7-D175-4E67-B0BB-8084458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842ED-1A5C-403B-A5E9-823AFDB1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AD3-90E3-4CFA-B2C5-6CE94ED0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8AEF7-9D21-4DBA-A415-3E317B4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FB52B-D11E-4B29-B191-4017E73B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0D7C-9387-4171-A69E-24D2174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F9D5C-77AA-49C6-9B55-138C1686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3EBD4-7B02-4790-8E66-3279384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F221-1485-4E36-96BE-74E94D9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DCE31-641E-423D-AADE-40A009B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A5568-CB6D-481B-A4BB-0FD533D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2E36-25B9-4E62-BFE2-6C1258F4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D415-6864-47D5-AFEA-A9CCCFF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244C-66F1-4935-BF36-5336F031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B0C3-0231-4055-B4CF-4553BE4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50E5-89CC-4299-A453-4F8098F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9EAD-D175-4941-B001-8F56B80E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CBFA-D56E-4485-830C-DC03DA98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52B89-F2C9-49C6-9208-051F215C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4781D-7EB9-48A2-BD49-2D972518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4CAAE-8FD9-4995-85D1-ABDDB76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63571-474C-4583-8AC5-BF3D31B6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DA635-9822-4B9B-B2B3-D47A40F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C6BD8-6366-4AF3-AE66-2CF34544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C00C-63D3-4C72-8F7A-AA878D6F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1D4D-50C5-49A4-9FA2-50442E2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21448-06B4-4692-B65B-FB4885B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F38B1-11A5-411C-80A0-A18EF2AE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F8CEE-1086-4082-B00A-3302C348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5489B-5C53-4041-9F1C-AABED8D4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5199D-52DC-4BAE-9483-56B77AE3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62AED-B8A5-4E43-8053-8023F80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384C1-9B47-4BFE-97AF-BC3C278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6497E-925B-4F41-9944-81A46524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7022C-FDB0-47CA-9CD6-928F86CB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47F-4E38-4DCF-A612-987829C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D8A2C-E87D-497B-A32C-CD2DC29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60B46-2D8C-4488-93EC-8FBB75B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32BAB-8346-4367-AD00-5687A5F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0E8AA-927C-4501-9299-F4AE923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7839A-ABC5-4736-BC65-395E0D5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298AE-2AAB-404F-9F49-3627BAA5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35191-261E-40E2-BA20-EF847028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3BC71-D069-49B5-AAFC-FD2854EB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D0728-1C10-42FB-B0C4-8878481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77CA0-4212-4E1F-AEC1-81D889A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E48B-C222-42C9-9D2D-7199910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58F86-AD0A-4979-9695-EFF962B2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9C0E9-D90A-4C0A-918E-93246B0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75647-F788-470B-9F1F-9B4BF948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582DB-EC60-4AE0-BC72-78FCF3F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58B90-52FF-4241-9507-0FE80FF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7CF0E-DC24-4565-AA7B-2DF5E65B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7C08C-FB0A-499B-A5FD-0D5C18DE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E43C9-056C-47AF-96AE-5F327BE7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35FF2-B492-4BB5-9CD1-FB5DAE40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E9433-A07F-4E3D-8730-22DB1B60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5F2-6586-42E3-86DA-32E4CC7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FCB71-1423-468D-804B-77177C31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4AA0F-4480-4162-A15D-027DF95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A5C5D-A643-4E31-BC43-BC3051C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0D014-8402-4AA5-971B-ED86B71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3CF3D-94C5-4D24-B3C8-C0BD48C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BD602-28E8-47C5-A318-F1881B5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14EE6-89B6-4E05-B36E-02FBDD6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A2452-D3B1-4B92-94CC-2C16786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FE231-0E07-408F-B30C-23C40F7C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AA5FE-715A-402D-A93C-2CAE56F6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6C5-AADA-41F4-B05D-EB7AA24E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FFB77-B9FD-4708-B48F-822AE6C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A2368-70FF-46E8-979D-F879FAB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F0443-58A5-4CFF-B5CC-FF7683B6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7788F-017F-429B-B2E8-B57B30F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1617D-29EE-4831-9920-85891797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8BE65-E160-453C-8977-4992344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7CD6E-76D7-40AB-BAF9-EEC4AC00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90D97-BB0F-4915-8E8B-3ADDFFF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8D3ED-87F3-4033-A4C2-9102422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B2E1D-8B94-4DF6-919B-1953BD9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2C27-588F-41BC-9BE1-DE41FDE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572D8-2E28-4895-927C-10C0D41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820A3-39FF-4624-A791-C2BE132E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B4E91-040D-4F01-B090-9D30F217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82B7A-363E-4199-BF5D-7C619CE5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F09DC-6ECB-405B-BC2B-802CEEAF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3EB5F-5135-48D1-96A4-830703B9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71958-EE73-493B-A76E-0C5BDA4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5466A-78E4-4730-96FA-2EBA27E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1F65A-D384-4A0E-963F-BC4A22E3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CFB29-C54C-46F6-9667-472ABF2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2F3-B66D-4E0F-A992-E439F881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E78-838A-425B-9900-78490C3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BB86C-9D65-4815-B655-FB9310A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309B1-DFC8-4082-A092-25296A2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F7AD7-60D6-4127-ABD7-B3B62D7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90A07-40E6-43B2-8E5F-205B475C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33B61-648B-40D4-95FA-3DA3051E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F2D72-DF47-46D3-B56E-E8003691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7CEBA-B635-4460-B879-D338200E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B9CF2-A2AF-46CA-BD38-9B0D6302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B48E2-E7D6-4A6E-915B-E7903FB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094D1-52E2-4807-AC6F-2BA6F32C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4F4-2D76-4F19-A10B-3C777B1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CF5AA-BE41-4ACF-8A02-AE3E910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452D9-4884-4103-B0C6-D706F20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1D5EB-48FB-4302-8807-C97E005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66817-F5D3-421E-9943-AFCCF19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7B895-4D1F-4A70-8D61-C7C92E4E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E9B9D-5512-40E8-B03A-53FC86DA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4D419-9218-43E6-B9E2-3803E835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FC421-4BF6-446F-A784-A38CF324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81F79-9182-4876-9A3C-32FC9CDA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45146-8925-4CD9-AB85-346F895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52A-A19E-41E8-9A20-4A895BC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7AF11-E16E-48D2-845C-B0BCE19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7DD86-518B-4E55-8EE1-4FE197F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1B035-2DA5-468F-B240-8A5F9E44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40848-2616-4F7A-BDDB-2E755E2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52D98-0E1D-4BFD-89E6-BBE621B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ABF51-4D16-484C-9B2F-118E13D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EE4C9-EC08-477E-A594-5D6C12C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95151-6041-43A9-8228-1027F41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1283A-B510-45BE-8853-EB20D239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E7EE7-4BC6-4B73-9B63-64735CB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9745-BC57-4F42-8431-5D521F3C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4BFEA-3921-41DA-A87F-C58AE9BC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C5E85-3FBD-4DA7-A5C3-A52569F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49FD4-FE08-4C58-A44C-22DDC713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25CFE-8163-4E7D-B95A-BF269DB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9D799-6169-4020-AFD8-ABADD14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887D2-918D-45CC-9D17-760ADC8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8A7C2-3C0A-47BB-90E1-72E48F8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01100-6840-4B8B-884F-E53F16A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F7027-5CBC-4529-A2E4-618E63AB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25304-EAC9-4F2C-B316-47DF93D8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44A-D336-42F6-B626-DD97C34F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861B6-4687-4A80-B285-ED034207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DED14-20CF-4334-913C-F5EE426C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23C71-CE7F-4893-9C2D-7428A5E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37F4F-D4FE-4586-A5F2-6C228BF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14A43-DC76-4281-8BD5-68610C8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CDEB8-5738-4163-93EA-108F877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7AAC0-5A69-4F8B-ACC9-873CD60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C3445-0731-4CA8-BDD6-4FAD634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3D7EC-994A-4F9E-85A1-A04D482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328B5-B54D-44B7-B344-CC914060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209F-C9AB-49C0-B726-1758F2FE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1C6EF-5994-4F06-84CC-873B9C97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D0ABE-2C28-4E1C-9491-FF4A0A87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57871-2ADF-46AC-AC47-06291D43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1526-137E-4623-BB99-6888DCCA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E6C9-64EF-4AF7-A0E0-7E7DB903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1BE4-AA38-4DB8-B451-0965B02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F5BB-1B7C-479B-9A83-3047A70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7E3-54C1-4689-8FB7-D59B77EA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EB7E-9275-4AE6-BCAF-52C574F5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02F3-2CD2-4A8C-948B-E02EDB9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31E6-A583-472E-9C25-6D050CA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49AC-0F2A-4B04-AFA2-7C49C15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D1AA-A53C-40D6-9EB2-E8445E2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AA08-3BEB-4DCF-81BD-C644E117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A45F-CFFB-418D-B2BA-CDABE386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2C6A-5CFD-4C6D-977A-98CB9DD7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F68C-2B21-43FE-AAF7-38BB12D0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DE06-DBC4-45D4-9647-AB4202C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749-D05E-4F1B-8334-5E20EAD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174D-97D1-4D39-AAE1-644178A8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CDEA-0696-422A-933A-745633B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46C7-7100-4D07-AF08-E8937F5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9BDD-BD85-4B51-A4E2-B0FE0A5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7936-28A2-4C13-89A9-A2C52B1A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54F7-F531-4D20-BD8A-B37B023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153F-BE96-41BD-8D51-DF2D2E8D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8150-CFA9-4DC6-BD9F-CA3ED514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D28C-CCE0-4B02-A002-CFF41206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3BB8-F2D6-4C6C-909F-5D012397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D8B-5C78-492E-AD2E-4443B4C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4904-4D29-4DDE-B257-893C7CE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D4DF-6504-41D2-B9CC-D0521F0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6377-EA8F-4C19-8955-89CB2D2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835CC-A865-482C-A019-ABEE2D4F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B1C1-0827-4712-A369-FFE274F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0991-08A0-4BBE-A479-9AFA150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B9DE-AE47-4300-91ED-3D92509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ADE3-AA60-4E54-8035-8BEEF9F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F2B9-D182-4D7A-B44F-E205635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35D7-3A4E-4D41-A211-A34B9CA3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663-2F8D-4F44-B447-95621D7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CDCE-D905-4A2E-A776-7DA667D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4731-832A-4585-806D-4AEC4367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EE1B-F3FE-453D-A7F2-A7470C62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26B3-ACA3-4118-A8C0-1D5771F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20E11-D423-400F-9F2C-A265CA0B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10C6-705C-4B0B-B924-B24E8698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77D2-C214-4895-9ABA-F70D767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3F72-92AD-4BA2-A0D5-76EE851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F3ED-0103-4C8E-A337-E7814D0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CCC8-152F-42B8-9F54-A2D8F2B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483-4C15-4AD9-B849-0130FA6D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5B5DA-4501-49B8-8679-EA60F93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1F529-A3A5-403F-B59A-BB6CAFF9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7CE4-A068-4BB3-BF36-DB900D83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77493-2D52-4EE6-9D96-2D77A50F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3BC4D-DDCC-40A1-8867-096AED1E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444E-11A0-4FB1-B619-51ACDFC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2EB9-304A-42EA-9F37-D137974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2A9D-F2C1-4A95-9955-10A5D21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9D7C-95B8-4A43-BF6A-4FE01AF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B337F-32A6-4C6E-83C4-CAE8ABA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6CE-8B04-4AF3-879D-18C13E5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CC92-079D-445E-B36F-CD97FBB8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C589-8222-4374-B79C-9798F9B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9882-94B1-4418-9F36-575A024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DCAFC-6F22-4ED4-8184-C5DDF3FB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29758-DC2A-43F1-A06A-832FBEAF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F4DB-FD64-4CA5-9EF3-510D500B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D9D72-C149-41FE-805A-75846B1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2ACC-534E-4492-B8ED-6864FAE9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BEB85-7272-4CF3-9509-044E320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987E8-2301-46E9-85A2-7A3BC2E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BAE-4A15-459E-B182-B70F607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9771-9993-4536-A19F-AC31939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818D-2053-4080-993F-F721734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D2D8-D080-457D-9254-97B8D2F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65B6A-20A4-4DB2-A54B-4A74BC4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F0DB-80E6-40E4-8872-14C803D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1C51-87E1-493C-BD3F-66923F55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2EB20-D264-40D7-B86C-C31C21C5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887DF-6853-4604-B79D-F01B8E55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6424-1D13-4BF3-881B-A9014F71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6F075-2339-4876-8D8A-4BE0355A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466-304A-437E-8472-0B0BCA68B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7A9-58DD-4786-AF8E-EBE319EDC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0541-C93B-4A06-8728-ED395EEB7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D3B-B893-4DBE-B68C-EBF1F8BB14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4B3-D1BA-41CC-A60C-3E49BE6F2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EF2-2A0E-43BE-BA33-B528ECC81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DC9-4D92-43AC-9396-174769BA8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DB6-5DAC-4689-95CC-8C77B6E73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45F-D88C-4CB7-9A3D-7570EAE7C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4945-3DDF-4289-B5C7-0272F5F1B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CE8-D65E-4443-885C-F24A16A0F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8A8-D996-4420-B2E1-7F77A37A2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6E73-51D5-412C-9213-09F335141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C4C-1722-47A7-A12A-0F1F5DAEB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ECB-1297-4858-A81C-E4C0DC9172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C74-FFA9-4E04-B3CA-B13B13DCE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0A0-DFF3-4E7E-9BA0-3E2FB0237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B5E-D7B4-4092-AB57-CF4DB7808B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1198-33CC-4AEB-9318-B65761B60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529-20A5-44D6-AB16-95F97CC47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0D9E-10A9-46D8-859B-9A13C8B3C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723-034B-48E6-987F-0B6152575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1DA-8901-41F5-8B3B-250FD3D21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4396-18EC-41C3-A85B-5C9458F2D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059A-BDFD-46AE-A68E-A785D9493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3744-CE57-476C-BB71-F78E82B94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2F5-C3CD-497D-B9EB-ED0102360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87E-44C0-4999-9245-AB0E721FD4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772A-FC88-4B5A-8352-C044C6B85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0108-A10B-4329-AF4A-BF44A7E8B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937F-5B0F-48A9-8446-F1F02180F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2D5-03C4-4344-9854-25E85EBBD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E6DB-BEA2-4653-BAB9-94669FE30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A38-E623-49E0-B7DE-A114F7EC7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D1C-0B1D-42D9-ABDB-4E4A73635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9098-C352-4A5B-9709-9D9E69C92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AF9-AEB2-435B-B1A9-1D10686D2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9A2-E65D-49BB-BFD2-10F1DD276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802-B154-4993-9663-2908B2444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1BB-BC30-4081-9A3B-5D1FE0FF9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0400" y="3067200"/>
            <a:ext cx="45432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876240"/>
            <a:ext cx="8534160" cy="5105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259236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71640" y="2938320"/>
            <a:ext cx="259236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859280" y="2335320"/>
            <a:ext cx="3168720" cy="506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788000" y="2924280"/>
            <a:ext cx="3168720" cy="5061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1280" y="4784760"/>
            <a:ext cx="316872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39640" y="5373720"/>
            <a:ext cx="316872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788000" y="4784760"/>
            <a:ext cx="316872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716360" y="5373720"/>
            <a:ext cx="3168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28680" y="768240"/>
            <a:ext cx="8486640" cy="5829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610400" y="443700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624800" y="515772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610400" y="5950080"/>
            <a:ext cx="1008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700200" y="1704960"/>
            <a:ext cx="7743600" cy="3448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294680" y="1844640"/>
            <a:ext cx="107928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294680" y="2579760"/>
            <a:ext cx="107928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411280" y="334332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804000" y="334332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2484360" y="394812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6877080" y="3962520"/>
            <a:ext cx="1079640" cy="50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2425680" y="4579920"/>
            <a:ext cx="1079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304920" y="928800"/>
            <a:ext cx="8534160" cy="5000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00000" y="2895480"/>
            <a:ext cx="518472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518508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18508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755640" y="4753080"/>
            <a:ext cx="8064360" cy="506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539640" y="5430960"/>
            <a:ext cx="8064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7352" descr=""/>
          <p:cNvPicPr/>
          <p:nvPr/>
        </p:nvPicPr>
        <p:blipFill>
          <a:blip r:embed="rId1"/>
          <a:stretch/>
        </p:blipFill>
        <p:spPr>
          <a:xfrm>
            <a:off x="247680" y="66600"/>
            <a:ext cx="8648640" cy="67248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4360" y="442260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68360" y="6308640"/>
            <a:ext cx="5111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6324" descr=""/>
          <p:cNvPicPr/>
          <p:nvPr/>
        </p:nvPicPr>
        <p:blipFill>
          <a:blip r:embed="rId1"/>
          <a:stretch/>
        </p:blipFill>
        <p:spPr>
          <a:xfrm>
            <a:off x="468360" y="82440"/>
            <a:ext cx="7991280" cy="6659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2592360" cy="506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3708360" y="3500280"/>
            <a:ext cx="2592360" cy="506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388764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00000" y="4595760"/>
            <a:ext cx="388800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388800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755640" y="5718240"/>
            <a:ext cx="38876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684360" y="6323040"/>
            <a:ext cx="525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5300" descr=""/>
          <p:cNvPicPr/>
          <p:nvPr/>
        </p:nvPicPr>
        <p:blipFill>
          <a:blip r:embed="rId1"/>
          <a:stretch/>
        </p:blipFill>
        <p:spPr>
          <a:xfrm>
            <a:off x="309600" y="581040"/>
            <a:ext cx="8524800" cy="5695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00000" y="383220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3743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684360" y="508464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539640" y="5689440"/>
            <a:ext cx="5904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4276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8818560" cy="118440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4277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77280" cy="1943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4398840" y="171468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707868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477360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437600" y="24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1951200" y="3716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5119560" y="365904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9"/>
          <a:stretch/>
        </p:blipFill>
        <p:spPr>
          <a:xfrm>
            <a:off x="7970760" y="3673440"/>
            <a:ext cx="777960" cy="506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0"/>
          <a:stretch/>
        </p:blipFill>
        <p:spPr>
          <a:xfrm>
            <a:off x="1951200" y="4249800"/>
            <a:ext cx="77760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1"/>
          <a:stretch/>
        </p:blipFill>
        <p:spPr>
          <a:xfrm>
            <a:off x="4932360" y="4235400"/>
            <a:ext cx="77796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2"/>
          <a:stretch/>
        </p:blipFill>
        <p:spPr>
          <a:xfrm>
            <a:off x="8294760" y="4221000"/>
            <a:ext cx="7779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9:5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